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6A8-60EF-4C7B-915D-82FDCBF0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C63-23D0-4E10-A538-79B23AEB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D3D-C1C3-4AB5-ACA7-CE24EA81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AE3-489A-4829-8FE9-2D7340F5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DB4-61D7-4ACF-8A57-B83D028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2DE-B604-49DA-B235-6FE89E78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B35-E11F-43B2-B7DC-051E83D8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7B3-2D9D-4EE3-B1FD-33E3172A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9DC-9084-4B41-B4FC-F4B7F04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4A3-1F4E-4A61-9738-793BBDC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DCC-D951-4A93-96E9-97351DD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2B0-D6DE-44B9-8584-E4B63D7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4A51-070B-41B5-8606-F7DA781C6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3"/>
          <p:cNvSpPr/>
          <p:nvPr/>
        </p:nvSpPr>
        <p:spPr>
          <a:xfrm>
            <a:off x="760320" y="152280"/>
            <a:ext cx="762012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teractions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iving Th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tent Placeholder 4"/>
          <p:cNvSpPr/>
          <p:nvPr/>
        </p:nvSpPr>
        <p:spPr>
          <a:xfrm>
            <a:off x="760320" y="2692440"/>
            <a:ext cx="7391520" cy="9144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omplete your Vocabulary Cha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s we go through the PowerPo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t3.gstatic.com/images?q=tbn:ANd9GcR8rOSPokMaVBJyX01nW315iRtocP8W8Wp3Su2ULuBzMPDt04dTAQ"/>
          <p:cNvPicPr/>
          <p:nvPr/>
        </p:nvPicPr>
        <p:blipFill>
          <a:blip r:embed="rId1"/>
          <a:stretch/>
        </p:blipFill>
        <p:spPr>
          <a:xfrm>
            <a:off x="2171880" y="3886200"/>
            <a:ext cx="4568760" cy="27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58680"/>
            <a:ext cx="480060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4. Detrit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4724280"/>
            <a:ext cx="8001000" cy="19814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eats dead organisms (or feces) for food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audubon-taming-the-wild-mushroom.jpg"/>
          <p:cNvPicPr/>
          <p:nvPr/>
        </p:nvPicPr>
        <p:blipFill>
          <a:blip r:embed="rId1"/>
          <a:stretch/>
        </p:blipFill>
        <p:spPr>
          <a:xfrm>
            <a:off x="152280" y="1447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Worms.JPG"/>
          <p:cNvPicPr/>
          <p:nvPr/>
        </p:nvPicPr>
        <p:blipFill>
          <a:blip r:embed="rId2"/>
          <a:stretch/>
        </p:blipFill>
        <p:spPr>
          <a:xfrm>
            <a:off x="5486400" y="1447920"/>
            <a:ext cx="3475080" cy="25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acteria.jpg"/>
          <p:cNvPicPr/>
          <p:nvPr/>
        </p:nvPicPr>
        <p:blipFill>
          <a:blip r:embed="rId3"/>
          <a:stretch/>
        </p:blipFill>
        <p:spPr>
          <a:xfrm>
            <a:off x="3276720" y="2590920"/>
            <a:ext cx="2514600" cy="211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5280" y="122040"/>
            <a:ext cx="358128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arasi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960" y="609120"/>
            <a:ext cx="3352680" cy="5791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An organism that lives on or in another organism, stealing its nutrients (food), and causing it harm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3302280" cy="246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707080" y="3581280"/>
            <a:ext cx="3467160" cy="233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205740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4"/>
          <a:stretch/>
        </p:blipFill>
        <p:spPr>
          <a:xfrm>
            <a:off x="6781680" y="1447920"/>
            <a:ext cx="223524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5280" y="122040"/>
            <a:ext cx="358128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380520"/>
            <a:ext cx="3353040" cy="5791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y organism that is being fed upon by a parasit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1371600" y="4330800"/>
            <a:ext cx="3213000" cy="252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3125880" cy="236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t1.gstatic.com/images?q=tbn:ANd9GcTaJ25mDZrJd-Rajrz_Xo8d4OoIQGQgS3BHD0TSZnSKrFz2wv5aEw"/>
          <p:cNvPicPr/>
          <p:nvPr/>
        </p:nvPicPr>
        <p:blipFill>
          <a:blip r:embed="rId1"/>
          <a:stretch/>
        </p:blipFill>
        <p:spPr>
          <a:xfrm>
            <a:off x="5181480" y="3384720"/>
            <a:ext cx="4114800" cy="3265200"/>
          </a:xfrm>
          <a:prstGeom prst="rect">
            <a:avLst/>
          </a:prstGeom>
          <a:ln w="0">
            <a:noFill/>
          </a:ln>
        </p:spPr>
      </p:pic>
      <p:sp>
        <p:nvSpPr>
          <p:cNvPr id="86" name="Content Placeholder 4"/>
          <p:cNvSpPr/>
          <p:nvPr/>
        </p:nvSpPr>
        <p:spPr>
          <a:xfrm>
            <a:off x="1981080" y="228600"/>
            <a:ext cx="541044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1920" y="1447560"/>
            <a:ext cx="5791320" cy="47545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travels in one direction within an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 an organism is eaten only a small portion of its energy 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~10%!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is passed 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means more organisms need to be at the base of a food chain than at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4560" y="1295280"/>
            <a:ext cx="4343400" cy="55627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sms get energy from food. If that organism is eaten than its energy is passed 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OD CHA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the path that energy takes from one organism to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foodchain.jpg"/>
          <p:cNvPicPr/>
          <p:nvPr/>
        </p:nvPicPr>
        <p:blipFill>
          <a:blip r:embed="rId1"/>
          <a:stretch/>
        </p:blipFill>
        <p:spPr>
          <a:xfrm>
            <a:off x="5332320" y="2743200"/>
            <a:ext cx="3490920" cy="380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098880" cy="1257120"/>
          </a:xfrm>
          <a:prstGeom prst="rect">
            <a:avLst/>
          </a:prstGeom>
          <a:ln w="0">
            <a:noFill/>
          </a:ln>
        </p:spPr>
      </p:pic>
      <p:sp>
        <p:nvSpPr>
          <p:cNvPr id="91" name="Content Placeholder 4"/>
          <p:cNvSpPr/>
          <p:nvPr/>
        </p:nvSpPr>
        <p:spPr>
          <a:xfrm>
            <a:off x="2362320" y="228600"/>
            <a:ext cx="434340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76920" y="1371240"/>
            <a:ext cx="4038480" cy="48006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most ecosystems, organisms eat more than one 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OD WE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many connected food chains showing feeding relationships in an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food web picture.jpg"/>
          <p:cNvPicPr/>
          <p:nvPr/>
        </p:nvPicPr>
        <p:blipFill>
          <a:blip r:embed="rId1"/>
          <a:stretch/>
        </p:blipFill>
        <p:spPr>
          <a:xfrm>
            <a:off x="146160" y="1600200"/>
            <a:ext cx="4654440" cy="4448160"/>
          </a:xfrm>
          <a:prstGeom prst="rect">
            <a:avLst/>
          </a:prstGeom>
          <a:ln w="0">
            <a:noFill/>
          </a:ln>
        </p:spPr>
      </p:pic>
      <p:sp>
        <p:nvSpPr>
          <p:cNvPr id="94" name="Content Placeholder 4"/>
          <p:cNvSpPr/>
          <p:nvPr/>
        </p:nvSpPr>
        <p:spPr>
          <a:xfrm>
            <a:off x="2209680" y="228600"/>
            <a:ext cx="419112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4"/>
          <p:cNvSpPr/>
          <p:nvPr/>
        </p:nvSpPr>
        <p:spPr>
          <a:xfrm>
            <a:off x="1981080" y="228600"/>
            <a:ext cx="541044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it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219320"/>
            <a:ext cx="8686800" cy="32004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ything that causes a population to stop grow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omething that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MITS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the number of organisms that can l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ten resources that organisms must have to survive and reprodu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food, space, water, temperature, sunlight, predators, and shel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374840" y="4648320"/>
            <a:ext cx="2981160" cy="204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895480" cy="19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ontent Placeholder 4"/>
          <p:cNvSpPr/>
          <p:nvPr/>
        </p:nvSpPr>
        <p:spPr>
          <a:xfrm>
            <a:off x="1981080" y="228600"/>
            <a:ext cx="541044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ryi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218960"/>
            <a:ext cx="8686800" cy="25146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ximum number of organisms that an ecosystem can support (keep aliv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 If there are too many deer, there will not be enough food, and many will not live through the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800600" y="4043520"/>
            <a:ext cx="4191120" cy="2814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427356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327672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reda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3760" y="1905120"/>
            <a:ext cx="3352680" cy="35812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hunts, kills and eats another organism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JLM-wolves-(1024x768).jpg"/>
          <p:cNvPicPr/>
          <p:nvPr/>
        </p:nvPicPr>
        <p:blipFill>
          <a:blip r:embed="rId1"/>
          <a:stretch/>
        </p:blipFill>
        <p:spPr>
          <a:xfrm>
            <a:off x="304920" y="3124080"/>
            <a:ext cx="4441680" cy="333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05520" y="533160"/>
            <a:ext cx="320040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re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143000"/>
            <a:ext cx="3352680" cy="49528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 organism that is killed and eaten by another org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117241668_b0bc62928c.jpg"/>
          <p:cNvPicPr/>
          <p:nvPr/>
        </p:nvPicPr>
        <p:blipFill>
          <a:blip r:embed="rId1"/>
          <a:stretch/>
        </p:blipFill>
        <p:spPr>
          <a:xfrm>
            <a:off x="4191120" y="22096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358164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roduc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562360" y="1218960"/>
            <a:ext cx="3352680" cy="34290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sms that can make their own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potted-plants.jpg"/>
          <p:cNvPicPr/>
          <p:nvPr/>
        </p:nvPicPr>
        <p:blipFill>
          <a:blip r:embed="rId1"/>
          <a:stretch/>
        </p:blipFill>
        <p:spPr>
          <a:xfrm>
            <a:off x="533520" y="2286000"/>
            <a:ext cx="43815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5280" y="122040"/>
            <a:ext cx="358128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304560"/>
            <a:ext cx="3353040" cy="601956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sms that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anno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make their own foo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They must eat other organisms to get their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117241668_b0bc62928c.jpg"/>
          <p:cNvPicPr/>
          <p:nvPr/>
        </p:nvPicPr>
        <p:blipFill>
          <a:blip r:embed="rId1"/>
          <a:stretch/>
        </p:blipFill>
        <p:spPr>
          <a:xfrm>
            <a:off x="6095880" y="365292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lown fish.jpg"/>
          <p:cNvPicPr/>
          <p:nvPr/>
        </p:nvPicPr>
        <p:blipFill>
          <a:blip r:embed="rId2"/>
          <a:stretch/>
        </p:blipFill>
        <p:spPr>
          <a:xfrm>
            <a:off x="4289400" y="435456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LM-wolves-(1024x768).jpg"/>
          <p:cNvPicPr/>
          <p:nvPr/>
        </p:nvPicPr>
        <p:blipFill>
          <a:blip r:embed="rId3"/>
          <a:stretch/>
        </p:blipFill>
        <p:spPr>
          <a:xfrm>
            <a:off x="4059360" y="236232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irds-of-north-america_T4868.jpg"/>
          <p:cNvPicPr/>
          <p:nvPr/>
        </p:nvPicPr>
        <p:blipFill>
          <a:blip r:embed="rId4"/>
          <a:stretch/>
        </p:blipFill>
        <p:spPr>
          <a:xfrm>
            <a:off x="6443640" y="1981080"/>
            <a:ext cx="2514600" cy="17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609120"/>
            <a:ext cx="8229600" cy="58676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re are four different kinds  of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consumer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erb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arn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mn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etrit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73392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1. Carn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.jpg"/>
          <p:cNvPicPr/>
          <p:nvPr/>
        </p:nvPicPr>
        <p:blipFill>
          <a:blip r:embed="rId1"/>
          <a:stretch/>
        </p:blipFill>
        <p:spPr>
          <a:xfrm>
            <a:off x="3276720" y="1905120"/>
            <a:ext cx="2077920" cy="312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61760" y="5330520"/>
            <a:ext cx="7391160" cy="15238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organism that eats ONLY other animals (mea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73356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. Herb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5486400"/>
            <a:ext cx="8534160" cy="8380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eats only plant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j0262568.jpg"/>
          <p:cNvPicPr/>
          <p:nvPr/>
        </p:nvPicPr>
        <p:blipFill>
          <a:blip r:embed="rId1"/>
          <a:stretch/>
        </p:blipFill>
        <p:spPr>
          <a:xfrm>
            <a:off x="2209680" y="2057400"/>
            <a:ext cx="478800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380880"/>
            <a:ext cx="373392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3. Omn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5105160"/>
            <a:ext cx="7772400" cy="15238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eats BOTH plants and animals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brown-bear-sow-with-twins_4144.jpg"/>
          <p:cNvPicPr/>
          <p:nvPr/>
        </p:nvPicPr>
        <p:blipFill>
          <a:blip r:embed="rId1"/>
          <a:stretch/>
        </p:blipFill>
        <p:spPr>
          <a:xfrm>
            <a:off x="2286000" y="1905120"/>
            <a:ext cx="4702320" cy="31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1:34:05Z</dcterms:created>
  <dc:creator>Owner</dc:creator>
  <dc:description/>
  <dc:language>en-US</dc:language>
  <cp:lastModifiedBy>User</cp:lastModifiedBy>
  <cp:lastPrinted>2012-05-07T22:05:18Z</cp:lastPrinted>
  <dcterms:modified xsi:type="dcterms:W3CDTF">2014-05-06T14:55:50Z</dcterms:modified>
  <cp:revision>41</cp:revision>
  <dc:subject/>
  <dc:title>Predator</dc:title>
</cp:coreProperties>
</file>